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2D8-D2A7-4DC9-99A1-0121BF75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723-C4C6-4CBF-9125-20235830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969-0AD6-4DED-9F16-FBF7F771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D19-9363-4407-A5CD-B6BB6858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06F-4986-43B3-A673-78DC064D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F78-A067-447D-95E0-9B1944B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AA4-A12C-437D-81F0-5E1D11E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E19-30CD-4926-8875-34C946A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47-5A1B-444E-838C-8AF9342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B52-D9D0-4E34-BF3E-05BD16F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D11-F1B1-4FA3-A6FE-AD4DD38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488-F943-4078-B0C7-C3C9B68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D71-F8EA-4FC1-A9E2-D38AF7C2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dr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 treeless plain in high latitude climates which is covered in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 Continental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14T15:21:23Z</dcterms:modified>
  <cp:revision>2</cp:revision>
  <dc:subject/>
  <dc:title>Present Day Russia</dc:title>
</cp:coreProperties>
</file>